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9F02-344E-4BBB-9D4A-B47FC3BE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877-D814-4350-8AA1-D4C4FA3E6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CAA-315C-42F3-9516-0C79338E96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FC8-04DD-4999-9306-F9B2498C6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D2ED-DD3D-476C-BF69-A2EE499312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B02-EBF8-4282-BB01-4A2908806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BD3-51FB-4E4C-BD1B-05E4BBDA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0DF-EFB0-42E6-BAE9-B6710707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CEB-FFAA-4CDE-8862-DE625848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1CC-A34F-447E-9D2D-8F2CA7139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A610-94AD-42B5-A35F-213167E8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2B70-2C79-4818-80EC-35DE97A7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9390-E037-4FAD-BBDD-871E2435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1A5B-EBD4-4BBD-97F6-07DB0568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23F6-DEFF-445B-AB7E-6D233A48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A23-7B62-414D-ABB0-6EA9ECBC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132A-1279-4207-9FE3-65A307B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B05-81C7-4AC6-8D2F-6DE81B6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D84C-179D-47C7-B867-0DBFA12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939-5D83-4F7F-AEF9-2A18DD4A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9DAF-C88D-4AD0-A334-987EC25E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93D-6DB8-4760-A03F-2054B2A8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0AE4-FD27-4711-8569-42E10A49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ED7-705C-43D3-A45B-EFD67CE9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05C-D374-4E5D-B14A-0A97BCBF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6E0-01A9-4020-A697-1A1F23DA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EFAB-CF1B-4BD4-8277-FC19062B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271-0B9E-4261-9229-8BABFA3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30CA-BEC7-4C9B-8072-54F0716A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B7B-4193-4E69-B25A-68654A9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33E-CC6A-42E8-8FFC-7EBE75509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20F2-4865-45B8-957D-FCB4994EA0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itizenship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the questions on a separate sheet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exchange papers when everyone is d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O NOT TALK……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does a citizen receive in exchange for loyalty from the govern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349360" y="3165480"/>
            <a:ext cx="44452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Define jus soli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028960" y="2567160"/>
            <a:ext cx="508608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Define jus sanguine.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(sanguini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587680" y="3206880"/>
            <a:ext cx="39686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830160"/>
            <a:ext cx="86868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o be classified as an immigrant what intentions must a person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994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90320"/>
            <a:ext cx="86868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To begin the naturalization process what a must a person do FIRS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2514600" y="3524400"/>
            <a:ext cx="42735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17T13:01:32Z</dcterms:modified>
  <cp:revision>132</cp:revision>
  <dc:subject/>
  <dc:title>D/O: TO EXPLAIN AND IDENTIFY PROBLEMS OF ECONOMICS</dc:title>
</cp:coreProperties>
</file>